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4B9-21DC-4CF9-9FA5-FAF6218A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B42-96ED-4CE3-AAB5-1ED1047D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DD1-5B9F-4ECF-BDB3-4B52D7A3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444-B01A-4EC7-A5ED-7F1D7300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793-D34C-478F-8C35-968A0E5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820-A4B3-460C-BC4A-9083D033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292-3CDC-4BD2-8AA0-A5D7654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4DA-7266-40EA-A38B-F2956AB5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4ED-1419-41CA-B606-FAE5A4D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650-3294-47A4-B593-2412A79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689-8588-45AA-A875-A26861E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4FA-32CB-4366-A7CA-05BFA94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26F-4CDE-4430-B380-D1F69A44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907920"/>
            <a:ext cx="7191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ÖZLER GÖRMEZSE GÖNÜL NASIL GÖRÜR ?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-252360" y="3716280"/>
            <a:ext cx="900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 soruya yüzyıllar boyu cevap aradık.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>
            <a:hlinkClick r:id="" action="ppaction://hlinkshowjump?jump=firstslide"/>
            <a:hlinkClick r:id="rId3"/>
          </p:cNvPr>
          <p:cNvSpPr/>
          <p:nvPr/>
        </p:nvSpPr>
        <p:spPr>
          <a:xfrm>
            <a:off x="8423280" y="607536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  <a:path fill="darken" w="21600" h="23455">
                <a:moveTo>
                  <a:pt x="10800" y="4764"/>
                </a:moveTo>
                <a:lnTo>
                  <a:pt x="13376" y="7376"/>
                </a:ln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lnTo>
                  <a:pt x="17763" y="11727"/>
                </a:lnTo>
                <a:lnTo>
                  <a:pt x="16109" y="11727"/>
                </a:lnTo>
                <a:lnTo>
                  <a:pt x="16109" y="18917"/>
                </a:lnTo>
                <a:lnTo>
                  <a:pt x="5491" y="18917"/>
                </a:lnTo>
                <a:lnTo>
                  <a:pt x="5491" y="11727"/>
                </a:lnTo>
                <a:lnTo>
                  <a:pt x="3837" y="11727"/>
                </a:lnTo>
                <a:close/>
              </a:path>
              <a:path fill="darkenLess" w="21600" h="23455">
                <a:moveTo>
                  <a:pt x="13376" y="7376"/>
                </a:moveTo>
                <a:lnTo>
                  <a:pt x="13376" y="5635"/>
                </a:lnTo>
                <a:lnTo>
                  <a:pt x="15152" y="5635"/>
                </a:lnTo>
                <a:lnTo>
                  <a:pt x="15152" y="9151"/>
                </a:lnTo>
                <a:close/>
              </a:path>
              <a:path fill="darkenLess" w="21600" h="23455">
                <a:moveTo>
                  <a:pt x="9877" y="15226"/>
                </a:moveTo>
                <a:lnTo>
                  <a:pt x="11723" y="15226"/>
                </a:lnTo>
                <a:lnTo>
                  <a:pt x="11723" y="18917"/>
                </a:lnTo>
                <a:lnTo>
                  <a:pt x="16109" y="18917"/>
                </a:lnTo>
                <a:lnTo>
                  <a:pt x="16109" y="11727"/>
                </a:lnTo>
                <a:lnTo>
                  <a:pt x="5491" y="11727"/>
                </a:lnTo>
                <a:lnTo>
                  <a:pt x="5491" y="18917"/>
                </a:lnTo>
                <a:lnTo>
                  <a:pt x="9877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445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OSTLAR BENİ HATIRLAS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AZIMDAN SES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DEYİŞ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403280" y="333360"/>
            <a:ext cx="6145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SERLERİ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ŞK V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0" y="5589720"/>
            <a:ext cx="9144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İM SADIK YARİM KARA TOPRAKTIR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075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ümüzde de halk şiiri aynı özellikleriyle devam etmekt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şıklar köy köy Anadolu’yu gezer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dyo,televizyon,CD araçlarını kullanı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HSUNİ ŞERİF,NEŞAT ERTAŞ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826920" y="260280"/>
            <a:ext cx="7315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ÜNÜMÜZDE DE HALK ŞAİRİ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AR MIDIR ?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7_asik_veysel_0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250920" y="260280"/>
            <a:ext cx="87138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ZUN İNCE BİR YOLDAYIM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İLETİŞİM BECERİLER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ARATICI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NTELEKTÜEL ME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EDYA OKUR-YAZAR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SYAL SORUMLULU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İŞİLERARASI İŞBİRLİĞ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187280" y="549360"/>
            <a:ext cx="705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1.YÜZYIL BECERİLERİ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11280" y="476280"/>
            <a:ext cx="773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İLGİNİZ İÇİN TEŞEKKÜRLER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Picture 6" descr="AŞİK"/>
          <p:cNvPicPr/>
          <p:nvPr/>
        </p:nvPicPr>
        <p:blipFill>
          <a:blip r:embed="rId1"/>
          <a:stretch/>
        </p:blipFill>
        <p:spPr>
          <a:xfrm>
            <a:off x="1476360" y="1700280"/>
            <a:ext cx="590400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755640" y="47628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CA ANADOLU LİSESİ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900000" y="2492280"/>
            <a:ext cx="727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OZANLA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müzikle birleşir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özlü edebiyat ürünleri nasıl aktarılı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im ürünlerden başka neler v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763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ÜNİTE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569440" y="6219720"/>
            <a:ext cx="574560" cy="638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38280"/>
              <a:gd name="textAreaBottom" fmla="*/ 601200 h 63828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3794" y="4991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08000" y="4653000"/>
            <a:ext cx="6335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Halk şairi ne demekt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 kim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şık Veysel’in eserleri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Günümüzde de halk şairi var mıdı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332000" y="333360"/>
            <a:ext cx="64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İÇERİK SORULARI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24000" y="6281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3794"/>
                </a:moveTo>
                <a:lnTo>
                  <a:pt x="18337" y="10800"/>
                </a:lnTo>
                <a:lnTo>
                  <a:pt x="43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Halk şairi yüzyıllar öncesinden beri varlığını sürdüren, eskiden ozan-kam-bahşı-şaman dediğimiz sanatçılarımız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eaeaea"/>
                </a:solidFill>
                <a:latin typeface="Arial"/>
              </a:rPr>
              <a:t>Eserlerini saz (eskiden kopuz ) eşliğinde söyle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403280" y="40464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ALK ŞAİRİ NE DEMEKTİR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766764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SIK%20VEYSEL%20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604360" y="628164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3794" y="4528"/>
                </a:moveTo>
                <a:lnTo>
                  <a:pt x="17806" y="11534"/>
                </a:lnTo>
                <a:lnTo>
                  <a:pt x="3794" y="185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ivas – Şarkışla – Sivrialan  köyünde doğmuştur.Çocukken gözlerini kaybeder. Saz çalmaya heves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31 yılında Ahmet Kutsi Tecer tarafından keşfedilir.Anadolu’da konserler verir, radyo programları yapar, konservatuarda dersler ve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1965’te TBMM , 500 lira aylık b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187280" y="404640"/>
            <a:ext cx="698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ŞIK VEYSEL KİMDİR 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84000" cy="69228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61">
                <a:moveTo>
                  <a:pt x="0" y="0"/>
                </a:moveTo>
                <a:lnTo>
                  <a:pt x="21600" y="0"/>
                </a:lnTo>
                <a:lnTo>
                  <a:pt x="21600" y="21861"/>
                </a:lnTo>
                <a:lnTo>
                  <a:pt x="0" y="21861"/>
                </a:lnTo>
                <a:close/>
              </a:path>
              <a:path fill="lightenLess" w="21600" h="21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1">
                <a:moveTo>
                  <a:pt x="21600" y="0"/>
                </a:moveTo>
                <a:lnTo>
                  <a:pt x="21600" y="21861"/>
                </a:lnTo>
                <a:lnTo>
                  <a:pt x="20200" y="20461"/>
                </a:lnTo>
                <a:lnTo>
                  <a:pt x="20200" y="1400"/>
                </a:lnTo>
                <a:close/>
              </a:path>
              <a:path fill="darkenLess" w="21600" h="21861">
                <a:moveTo>
                  <a:pt x="21600" y="21861"/>
                </a:moveTo>
                <a:lnTo>
                  <a:pt x="0" y="21861"/>
                </a:lnTo>
                <a:lnTo>
                  <a:pt x="1400" y="20461"/>
                </a:lnTo>
                <a:lnTo>
                  <a:pt x="20200" y="20461"/>
                </a:lnTo>
                <a:close/>
              </a:path>
              <a:path fill="lighten" w="21600" h="21861">
                <a:moveTo>
                  <a:pt x="0" y="21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1"/>
                </a:lnTo>
                <a:close/>
              </a:path>
              <a:path fill="darken" w="21600" h="21861">
                <a:moveTo>
                  <a:pt x="3794" y="3924"/>
                </a:moveTo>
                <a:lnTo>
                  <a:pt x="17806" y="10931"/>
                </a:lnTo>
                <a:lnTo>
                  <a:pt x="3794" y="1793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qwertyuıopüüüüüüüüüüüüüüüü,,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6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şık Veysel; Anadolu, toprak sevgisi, köy sorunları ve acılı hayatını iş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lk şairi geleneğini devam etti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nadolu’yu köy köy , kahve kahve ge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İki şeye çok üzülü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skere gidemem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tatürk’e yazdığı destanı okuyamamak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EBİ ŞAHSİYETİ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yewolşnnnnny"/>
          <p:cNvPicPr/>
          <p:nvPr/>
        </p:nvPicPr>
        <p:blipFill>
          <a:blip r:embed="rId1"/>
          <a:stretch/>
        </p:blipFill>
        <p:spPr>
          <a:xfrm>
            <a:off x="-468360" y="-531720"/>
            <a:ext cx="9612360" cy="73897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916360" y="508464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ST DOST DİYE DİY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İCESİNE SARILDIM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380360" y="6208560"/>
            <a:ext cx="576360" cy="6494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9440"/>
              <a:gd name="textAreaBottom" fmla="*/ 612360 h 649440"/>
            </a:gdLst>
            <a:ahLst/>
            <a:rect l="textAreaLeft" t="textAreaTop" r="textAreaRight" b="textAreaBottom"/>
            <a:pathLst>
              <a:path w="21600" h="24337">
                <a:moveTo>
                  <a:pt x="0" y="0"/>
                </a:moveTo>
                <a:lnTo>
                  <a:pt x="21600" y="0"/>
                </a:lnTo>
                <a:lnTo>
                  <a:pt x="21600" y="24337"/>
                </a:lnTo>
                <a:lnTo>
                  <a:pt x="0" y="24337"/>
                </a:lnTo>
                <a:close/>
              </a:path>
              <a:path fill="lightenLess" w="21600" h="243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37">
                <a:moveTo>
                  <a:pt x="21600" y="0"/>
                </a:moveTo>
                <a:lnTo>
                  <a:pt x="21600" y="24337"/>
                </a:lnTo>
                <a:lnTo>
                  <a:pt x="20200" y="22937"/>
                </a:lnTo>
                <a:lnTo>
                  <a:pt x="20200" y="1400"/>
                </a:lnTo>
                <a:close/>
              </a:path>
              <a:path fill="darkenLess" w="21600" h="24337">
                <a:moveTo>
                  <a:pt x="21600" y="24337"/>
                </a:moveTo>
                <a:lnTo>
                  <a:pt x="0" y="24337"/>
                </a:lnTo>
                <a:lnTo>
                  <a:pt x="1400" y="22937"/>
                </a:lnTo>
                <a:lnTo>
                  <a:pt x="20200" y="22937"/>
                </a:lnTo>
                <a:close/>
              </a:path>
              <a:path fill="lighten" w="21600" h="24337">
                <a:moveTo>
                  <a:pt x="0" y="243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37"/>
                </a:lnTo>
                <a:close/>
              </a:path>
              <a:path fill="darken" w="21600" h="24337">
                <a:moveTo>
                  <a:pt x="3794" y="12169"/>
                </a:moveTo>
                <a:lnTo>
                  <a:pt x="17806" y="5162"/>
                </a:lnTo>
                <a:lnTo>
                  <a:pt x="17806" y="1917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574560" cy="692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6023">
                <a:moveTo>
                  <a:pt x="0" y="0"/>
                </a:moveTo>
                <a:lnTo>
                  <a:pt x="21600" y="0"/>
                </a:lnTo>
                <a:lnTo>
                  <a:pt x="21600" y="26023"/>
                </a:lnTo>
                <a:lnTo>
                  <a:pt x="0" y="26023"/>
                </a:lnTo>
                <a:close/>
              </a:path>
              <a:path fill="lightenLess" w="21600" h="26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3">
                <a:moveTo>
                  <a:pt x="21600" y="0"/>
                </a:moveTo>
                <a:lnTo>
                  <a:pt x="21600" y="26023"/>
                </a:lnTo>
                <a:lnTo>
                  <a:pt x="20200" y="24623"/>
                </a:lnTo>
                <a:lnTo>
                  <a:pt x="20200" y="1400"/>
                </a:lnTo>
                <a:close/>
              </a:path>
              <a:path fill="darkenLess" w="21600" h="26023">
                <a:moveTo>
                  <a:pt x="21600" y="26023"/>
                </a:moveTo>
                <a:lnTo>
                  <a:pt x="0" y="26023"/>
                </a:lnTo>
                <a:lnTo>
                  <a:pt x="1400" y="24623"/>
                </a:lnTo>
                <a:lnTo>
                  <a:pt x="20200" y="24623"/>
                </a:lnTo>
                <a:close/>
              </a:path>
              <a:path fill="lighten" w="21600" h="26023">
                <a:moveTo>
                  <a:pt x="0" y="26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3"/>
                </a:lnTo>
                <a:close/>
              </a:path>
              <a:path fill="darken" w="21600" h="26023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1:36:23Z</dcterms:created>
  <dc:creator>TOSHIBA</dc:creator>
  <dc:description/>
  <dc:language>en-US</dc:language>
  <cp:lastModifiedBy>Sekreter</cp:lastModifiedBy>
  <dcterms:modified xsi:type="dcterms:W3CDTF">2011-01-06T13:55:33Z</dcterms:modified>
  <cp:revision>3</cp:revision>
  <dc:subject/>
  <dc:title>Slayt 1</dc:title>
</cp:coreProperties>
</file>